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808-6E2B-4768-8D8C-5227636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83C-075E-4795-94C6-10EC40FE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73A-7EE7-4B4A-AE03-BECD3A72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DA3-FE8A-4B07-B61E-439D69A9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4357-B0D7-4D27-8BE6-E4EFDD73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026-82B4-471F-94F9-A74EDB1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594-2304-4EAF-9B31-FB1C3571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B06E-C706-446A-89F8-7AA3D00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361A-7BE6-4597-B87B-C0C7A35F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A5C8-B17A-4B68-BA40-32DAD44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48F-B17A-4860-9B12-C336D35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19D-75FB-4AA2-9A25-29445186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2F6-424D-4CCE-9673-0CE2CBC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0A5-BB67-4768-AC34-15DB7A0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B3B5-9A18-4222-BE6D-82376387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61D-EC84-410F-B42A-ACCD41BF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6759-F169-4C0F-BF58-97A4D3F0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C89-9C0B-4502-991A-DA503BE0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78D-89E6-462D-852F-485AEA7A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59E-D9E1-41DD-BED7-F289C48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356-DEF6-4C80-9AB4-BC7BEC5C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DF0-293D-4E3F-9C4B-046D932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940-25B9-40C4-8516-8005F06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903-A008-400C-8190-1A162A8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4FD-3AE7-4132-9AD2-4269FDCDCD1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F7B9-03B2-47AD-B2E0-61D9C2B5FF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ceangrovenc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OCEAN GROVE NEIGHBOURHOOD CENTRE INC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ISTERED TRAINING ORGANISATION 204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5447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How do we do th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 is provided in the 2016 booklet in regards to what we o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will discuss your training requirements and MOU requir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lanning of course time tabling will take place each qu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livery to commence once min numbers rea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ining request forms must be returned by weeks 6 of each term for delivery in the next qu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OGNC CONTACT DET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ress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John Dory Drive Ocean Grov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ONE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255 42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AX: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256 18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MAIL: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icki@ognc.com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ww.ognc.com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ffice open hours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nday to Thursday 9am to 7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iday 9am to 5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Our support staff cont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69228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Nicki Dunne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anager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Tues to Friday 8am to 4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or 0414 764 9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nicki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Julie Long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Adult Education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Wed Thurs 9am to 3p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Tuesday 2pm to 8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Julie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Josie Wallis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Enrolment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Thurs 1pm to 7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josie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Kerry Wilson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RTO Compliance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and Student Lia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Thurs 11am to 7p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Friday  9am to 5.30pm</a:t>
            </a:r>
            <a:r>
              <a:rPr b="0" lang="en-AU" sz="6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kerry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Bree Fankhauser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Reception 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Mon to Fri  9am to 5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ne:  5255 42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ail:    reception@ognc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was established as a centre in 1980 through a community initiative driven by 2 local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offers over 130 hobby, community and accredited training courses each qua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provides community development projects and a major youth project to community members within their local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GNC is the only NC in the Barwon South West region that is an RTO and was endorsed in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ver the past 6 years OGNC has been offering accredited courses to other Centres within the Barwon South West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U’s are in place to meet individual organisations learn local training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ining was contracted in discussion with each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THE ADVANTAGES FOR  YOUR CENT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offers courses in accredited training within your local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U’s were designed to meet individual organisation’s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er class sizes and minimum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wer course fees to your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dividual training options and RPL opportunities to your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HOW THIS CAN HAP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has a sound understanding of the Neighbourhood Centre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does not have high overheads and large management structures as some of the bigger RT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training is accredited and compliant under AQTF 2015 standards and VRQA and is recognised natio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HAT COURSES WE OFF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following full courses will be on offer from 2016 – individual units can be offered al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se hygienic practices for food saf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ood Supervi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esponsible Service of 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Individual Support (Aging and Home Ca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Business Admin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II in Business Administration (medic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Education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Ag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Leisure and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ertificate IV in Dis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Community Services (Case management and Social Hous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Alcohol and other drug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Mental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Business Admin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Early childhood education and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iploma of Youth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ADMINISTRATION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ach centre will be required to sign a MOU valid for 2016 outlining the conditions and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entres are to then submit the training request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then match your training requirements with tutors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 confirmation of training will be sent to each c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ach centre is to advertise the course in their local newsletters listing OGNC as the RTO and booking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take all bookings and payments for cou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ay room rental, photocopying, max number bonus and $20 per student for tea/coff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s can be invoiced mont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complete all paperwork, funding eligibilit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e - training interviews and literacy and numeracy tests prior to courses comme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carry all risk in regard to student pay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ask all students to pay a depo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invoice students with a payment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lan and payment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rovide centres with options for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llecting cash from students either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th the trainer or through the cen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also advertise the courses within their program and local media outlets, including the Geelong Advertiser on a Saturday once a quarter for your 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GNC will provide you with marketing material for your centre and the courses including logo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Trai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of our trainers meet AQTF quality standards and are compliant with qualif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GNC can utilise your trainers for training as long as they mee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and tutor resources are provided by OGN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 paperwork is required by your organisation to deliver these cour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4:38:20Z</dcterms:created>
  <dc:creator>.</dc:creator>
  <dc:description/>
  <dc:language>en-US</dc:language>
  <cp:lastModifiedBy>Nicki Dunne</cp:lastModifiedBy>
  <dcterms:modified xsi:type="dcterms:W3CDTF">2016-06-03T05:40:40Z</dcterms:modified>
  <cp:revision>32</cp:revision>
  <dc:subject/>
  <dc:title>Slide 1</dc:title>
</cp:coreProperties>
</file>