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D69B-3A47-47A6-8B9F-FB132FD1C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4CC6-7144-41E6-A6AC-F198C33E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D12F-03CA-472D-8E6D-6C629968C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79EE-E8CB-4649-86F3-16C49A83D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3AE46-E2E3-4FED-8B48-7CCE2F5CF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CD20-072F-4810-A403-5CAB0539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923D-A371-4FBD-ACFC-7F479EA0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D352-B17E-4C00-BD5D-33DE4293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3C39-85D0-4791-8ED4-0618DAF3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90E8-6FD9-4275-8279-19B35C65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6BB5-3C8E-40B3-9596-8A7E221D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C00A-2307-47EE-B4D0-E21477FA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B3DB-F431-4B18-80C7-EE2B6173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C7DE-E0C4-440A-933C-4851966C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9AF6-DB77-47D2-A959-721FA652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AB07-C4ED-40EB-9126-670D59C76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F787-E541-4414-9D21-7623B8DD2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AEB4-ECCB-4E7D-A608-08DC3B49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9E9F-5BDF-4379-864A-3E5C2E82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31FA-85BD-4786-B023-71D4F23B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593F-D437-49E3-8F6C-25EF5FAD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623A-D01C-4020-B0AF-3F9D5207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9861-9CF3-420A-BC9C-037C21AD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831D-B5FB-4749-BB46-B463D4C0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B049-571B-4078-9067-CEDFCB12B36C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41FF-9848-43B8-8366-1D9B2F6E4BA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oceangrovenc.com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657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ccecff"/>
                </a:solidFill>
                <a:latin typeface="Arial"/>
              </a:rPr>
              <a:t>OCEAN GROVE NEIGHBOURHOOD CENTRE INC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450828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EGISTERED TRAINING ORGANISATION 2045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1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1544760" cy="14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ecff"/>
                </a:solidFill>
                <a:latin typeface="Arial"/>
              </a:rPr>
              <a:t>How do we do thi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formation is provided in the 2016 booklet in regards to what we of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GNC will discuss your training requirements and MOU requirem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lanning of course time tabling will take place each quar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elivery to commence once min numbers reach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raining request forms must be returned by weeks 6 of each term for delivery in the next quar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ecff"/>
                </a:solidFill>
                <a:latin typeface="Arial"/>
              </a:rPr>
              <a:t>OGNC CONTACT DETAI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ddress: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1 John Dory Drive Ocean Grov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HONE: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5255 429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FAX:       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5256 18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MAIL:   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icki@ognc.com.a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ww.ognc.com.a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ffice open hours: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onday to Thursday 9am to 7p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Friday 9am to 5p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ecff"/>
                </a:solidFill>
                <a:latin typeface="Arial"/>
              </a:rPr>
              <a:t>Our support staff contac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50560" y="692280"/>
            <a:ext cx="878508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Nicki Dunne 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Manager 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Tues to Friday 8am to 4p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Phone:  5255 4294 or 0414 764 9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email:    nicki@ognc.com.a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Julie Long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Adult Education 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Mon Wed Thurs 9am to 3p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Tuesday 2pm to 8p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Phone:  5255 429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email:    Julie@ognc.com.a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Josie Wallis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Enrolment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Mon to Thurs 1pm to 7p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Phone:  5255 4294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email:    josie@ognc.com.a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Kerry Wilson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RTO Compliance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and Student Liai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Mon to Thurs 11am to 7p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Friday  9am to 5.30pm</a:t>
            </a:r>
            <a:r>
              <a:rPr b="0" lang="en-AU" sz="600" spc="-1" strike="noStrike">
                <a:solidFill>
                  <a:srgbClr val="00206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Phone:  5255 4294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email:    kerry@ognc.com.a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Bree Fankhauser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Reception 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Mon to Fri  9am to 5p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Phone:  5255 429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email:    reception@ognc.com.a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ecff"/>
                </a:solidFill>
                <a:latin typeface="Arial"/>
              </a:rPr>
              <a:t>BACKGROUND INFORM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GNC was established as a centre in 1980 through a community initiative driven by 2 local wom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GNC offers over 130 hobby, community and accredited training courses each quar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GNC provides community development projects and a major youth project to community members within their local reg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GNC is the only NC in the Barwon South West region that is an RTO and was endorsed in 200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Over the past 6 years OGNC has been offering accredited courses to other Centres within the Barwon South West Re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OU’s are in place to meet individual organisations learn local training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raining was contracted in discussion with each cent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ecff"/>
                </a:solidFill>
                <a:latin typeface="Arial"/>
              </a:rPr>
              <a:t>THE ADVANTAGES FOR  YOUR CENTR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OGNC offers courses in accredited training within your local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OU’s were designed to meet individual organisation’s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maller class sizes and minimum num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Lower course fees to your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dividual training options and RPL opportunities to your cli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ecff"/>
                </a:solidFill>
                <a:latin typeface="Arial"/>
              </a:rPr>
              <a:t>HOW THIS CAN HAPP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OGNC has a sound understanding of the Neighbourhood Centre Se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OGNC does not have high overheads and large management structures as some of the bigger RTO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ll training is accredited and compliant under AQTF 2015 standards and VRQA and is recognised nation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ecff"/>
                </a:solidFill>
                <a:latin typeface="Arial"/>
              </a:rPr>
              <a:t>WHAT COURSES WE OFF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The following full courses will be on offer from 2016 – individual units can be offered al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Use hygienic practices for food safe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Food Superviso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Responsible Service of Alcoh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Certificate III in Individual Support (Aging and Home Car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Certificate III in Business Administ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Certificate III in Business Administration (medical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Certificate IV in Education Sup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Certificate IV in Aging Sup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Certificate IV in Leisure and Heal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Certificate IV in Dis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Diploma of Community Services (Case management and Social Housing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Diploma of Alcohol and other drug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Diploma of Mental Heal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Diploma of Business Administ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Diploma of Early childhood education and c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Diploma of Youth Wor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ecff"/>
                </a:solidFill>
                <a:latin typeface="Arial"/>
              </a:rPr>
              <a:t>ADMINISTRATION SUPPOR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ach centre will be required to sign a MOU valid for 2016 outlining the conditions and char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entres are to then submit the training request 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OGNC will then match your training requirements with tutors avail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A confirmation of training will be sent to each cent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ach centre is to advertise the course in their local newsletters listing OGNC as the RTO and booking off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OGNC will take all bookings and payments for cour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OGNC will pay room rental, photocopying, max number bonus and $20 per student for tea/coffe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is can be invoiced month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OGNC will complete all paperwork, funding eligibility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pre - training interviews and literacy and numeracy tests prior to courses commenc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OGNC will carry all risk in regard to student pay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OGNC will ask all students to pay a depos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OGNC will invoice students with a payment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plan and payment op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OGNC will provide centres with options for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ollecting cash from students either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with the trainer or through the cent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OGNC will also advertise the courses within their program and local media outlets, including the Geelong Advertiser on a Saturday once a quarter for your ven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OGNC will provide you with marketing material for your centre and the courses including logos requi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ecff"/>
                </a:solidFill>
                <a:latin typeface="Arial"/>
              </a:rPr>
              <a:t>Train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ll of our trainers meet AQTF quality standards and are compliant with qualific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OGNC can utilise your trainers for training as long as they meet regul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tudent and tutor resources are provided by OGN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o paperwork is required by your organisation to deliver these cour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04:38:20Z</dcterms:created>
  <dc:creator>.</dc:creator>
  <dc:description/>
  <dc:language>en-US</dc:language>
  <cp:lastModifiedBy>Nicki Dunne</cp:lastModifiedBy>
  <dcterms:modified xsi:type="dcterms:W3CDTF">2016-06-03T05:40:40Z</dcterms:modified>
  <cp:revision>32</cp:revision>
  <dc:subject/>
  <dc:title>Slide 1</dc:title>
</cp:coreProperties>
</file>